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F658-FFA8-4471-A96E-E37C54F34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58DB-7C7E-4E50-8865-B820CBF99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EFE5-EC2A-44C1-B902-D7A9A7909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6C69-7C6A-47E5-ADC7-9410F2D49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817C9-FF1A-4625-B8DC-B9F81FD7B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CBC40-F13E-40F7-8490-10FC81EAF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71FF0-DEE6-429F-8494-248D127F6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3C611-F868-4380-915F-7050DDAF3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CCF17-E07E-43F1-BF3B-AF6732BC6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89045-155C-4306-847D-34B5E33B5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90620-F74C-40B0-8D77-7BC858A9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341C-1F77-4E86-AAC5-BAE1D5E0A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0219C-BA1F-4123-8590-3E25C479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A29ED-56EC-4609-A7C4-582EB02D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0B941-1FD7-4704-8F31-87484B38F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7E4D9-F6FD-4CE7-9A64-EA4A637CC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71BC3-050E-4B0F-9C8C-F04A03EE1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92B3-17F6-4DE0-A900-F0F5F05B5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7AB4-550B-49E9-B9B4-694D4D08A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94D0-AC50-4B65-A7D1-9E3CCF462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C918-4DF6-4749-B297-18FD52961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06BA-44AB-4754-A630-791F70D0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6EDD-66C9-4059-8C9A-E31E73C3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6729-21F5-4982-8DAF-0A0C9176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6CC13-8428-48B7-8084-70B4249916B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E07D9-5342-44F6-BA6A-D29373B270C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20 ГОД И ПЛАНОВЫЙ ПЕРИОД 2021-2022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11-27T00:30:08Z</dcterms:modified>
  <cp:revision>44</cp:revision>
  <dc:subject/>
  <dc:title>Структура собственных доходов на 2016 год бюджета Дальнереченского городского округа</dc:title>
</cp:coreProperties>
</file>